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4361-579C-47A6-ADCE-7A5704C9826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E2D2-42EA-43D1-84A1-524D7FD2E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3CD4-A42B-4D86-833F-74A649542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4F65-DD55-44AD-A37D-B3AF5FC89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49FC-4505-46E3-9ACB-11B6B1266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8431-1354-43D9-B364-F48D6D20F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3B07-B8F7-463F-AB91-3F287FB1E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E5CA-4414-46C7-B871-6DF07521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39B1-D714-487E-8F77-77571406A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17A4-DDD1-44BD-9806-F1CDDD08C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2D22-7808-40BB-B471-4761D0967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66AC-1670-4FED-9B70-DB9715F5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41F6-7EB8-4F4C-AE7C-8514A5BEF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FB37-2D46-4EC0-8160-4FC1787F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C6D0-F4D6-4D88-9A83-81F6F8738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DC71-4200-428B-B871-8D64814BE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2A7F-E20A-4B86-A334-6EFA63331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3F40-21E1-4C13-B958-6771999C3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6A4E-F68E-4E67-B1ED-1225D16AD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CD38-5C1A-4991-882B-610AF47F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E83D-7FE7-49E7-B2B0-93C7951B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052D-BA74-4972-8B98-BBB24FB2E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0F2C-E3F1-4D2E-BF11-E06FB231A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800B-F6F9-4CD1-9757-864871FCF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5525-A0D0-4BA4-8DEA-EF84810F8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A9F8-E0CA-4921-BFA2-33A66EA58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8A00-55F5-4361-AC80-8406CB29A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4C5E-494C-471A-9D65-DFB4380F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53AF-1140-45DE-9E85-2965E3B18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CC97-F920-4B30-B14F-5F75A697B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EE8F-BB9C-4EF1-B311-092AD0752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9978-F4D2-4474-B801-2C3669BCB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C06D-A144-4221-8A79-9A0BA39AA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F5C3-6DB3-4173-8D0E-769535040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C68B-E67B-427C-9728-1AD869E4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1788-A823-4C73-891D-4E012B5F6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03CF-55E2-4CB6-9455-1C0A5222D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4FA1-F948-4555-BAC1-1265037E2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F6F-2617-4868-8D60-623E142E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6ED-C995-48D0-9F76-AB794389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B26-DD16-491A-A8C6-EF4CA253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A70-A8EC-44E5-869E-80C5C1BE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492-FF15-458D-9AF9-B30F233E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FD83-72A0-48A4-80FF-02854F36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B19-8752-41CE-A9AA-3300E067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13D-AB64-4B3B-B874-1DF7C864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F99-6CC4-44FD-A302-03B27AD6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C47-EAAD-422B-B952-690ADEFE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A8D-C716-4C57-8B3F-404056DF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5A9-FEEB-4A4A-A757-3C7106FD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94AB-D7C2-4817-911D-8AF81778D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eastprovidencelibrary.com/natalie_babbitt.htm" TargetMode="External"/><Relationship Id="rId2" Type="http://schemas.openxmlformats.org/officeDocument/2006/relationships/hyperlink" Target="http://green.upper-arlington.k12.oh.us/ohioauthors/babbitt,natalie.htm" TargetMode="External"/><Relationship Id="rId3" Type="http://schemas.openxmlformats.org/officeDocument/2006/relationships/hyperlink" Target="http://english.byu.edu/Novelinks/reading%20strategies/tuck%20everlasting/Tuck%20Everlasting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tuckname"/>
          <p:cNvPicPr/>
          <p:nvPr/>
        </p:nvPicPr>
        <p:blipFill>
          <a:blip r:embed="rId1"/>
          <a:stretch/>
        </p:blipFill>
        <p:spPr>
          <a:xfrm>
            <a:off x="1630440" y="395280"/>
            <a:ext cx="6095880" cy="1263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images middle tuck cover"/>
          <p:cNvPicPr/>
          <p:nvPr/>
        </p:nvPicPr>
        <p:blipFill>
          <a:blip r:embed="rId2"/>
          <a:stretch/>
        </p:blipFill>
        <p:spPr>
          <a:xfrm>
            <a:off x="2201760" y="1662120"/>
            <a:ext cx="4997520" cy="4386240"/>
          </a:xfrm>
          <a:prstGeom prst="rect">
            <a:avLst/>
          </a:prstGeom>
          <a:ln w="158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. How long ago had the Tucks drunk the water from the spring?            (pg. 18/pg. 3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7. According to their story, everyone had a drink, except for the ______.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8. When did they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alize “there was something peculiar”?           (pg. 19/pg. 3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9. Why did Miles’s wife leave him?  (pg. 19/pg. 3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7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. What made the Tucks realize that the spring was “the source of their changelessness”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1. When they came to that conclusion, what did Angus Tuck do to make sure?  (pg. 20/pg. 4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2. What is Angus Tuck’s explanation for the spring?  (pg. 20/pg. 4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3. How is Jesse’s attitude toward immortality different from that of Miles?  (pg. 21 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4. Why does Mae want to take Winnie home with her?  (pg. 21/pg. 4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. Who has been following the Tucks and heard their entire story?          (pg. 22/pg. 4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. What kind of a child does Tuck say Winnie is?  (pg. 24/pg. 48)  What does he mean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7. How does Tuck react upon meeting Winnie?  (pg. 24/pg. 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. How does Winnie feel upon meeting Tuck?  (pg. 24/pg. 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9. How is Winnie’s home different from the Tucks’?  (pgs. 24-25/ pgs. 50-5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. Why can’t the Tucks settle down at one place? (p. 26/p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. How long have they lived in that house?  (pg. 26/pg. 5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0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. How often do Miles and Jesse come home?  (pg. 27/pg. 5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3. What is Mae’s attitude toward immortality?  How does she deal with it?  (pg. 27/pgs. 54-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4. What is Winnie not allowed to do at home at mealtime that suddenly makes the meal at the Tucks seem “luxurious”?  (pg. 28/pg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5. What ‘rule’ does Winnie notice at mealtime?  (p. 28/p. 5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. How and why does Winnie’s attitude towards the Tucks change?    (pg. 28/pg. 5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7. Tuck tells Winnie, “Everything’s a _______, turning and turning, never stopping….” (p. 30/p. 62)  What does he mean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8. Tuck says to Winnie, “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we jus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ike rocks beside the road.”  What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used here?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9. Why does Tuck want Winnie to keep their secret? (pgs. 31-32/p. 6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. Who steals the Tucks’ horse?  Where does he take the horse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1. What does he say to Winnie’s grandmother?  (pg. 32/pg. 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2. Who is the last person to visit Winnie as she tries to fall asleep?  What does he want?               (pg. 35/pgs. 71-7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Wha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ing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ppened in the first wee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August that seemed 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no connection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t fir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3/pg. 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Pj01445100000[1]"/>
          <p:cNvPicPr/>
          <p:nvPr/>
        </p:nvPicPr>
        <p:blipFill>
          <a:blip r:embed="rId1"/>
          <a:stretch/>
        </p:blipFill>
        <p:spPr>
          <a:xfrm>
            <a:off x="5105520" y="4191120"/>
            <a:ext cx="22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3. What kind of a deal/trade does the man in the yellow suit want to make with the Fosters?      (pg. 36/pg. 7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4. How does he describe the Tucks to the Fosters?  (pg. 36/pg. 7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. Why doesn’t he want Mr. Foster to come along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. Describe the constable’s suspicions.  (pg. 37/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7. What is the stranger’s explanation for not reporting the kidnapping right away?           (pg. 37/ pg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6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8. What is the constable’s reaction upon being told that the Fosters have sold their wood to the man in the yellow suit? Why?       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9. How far is the Tucks’ home from the Fosters’? (pg. 37/p. 7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. Why didn’t Miles take his family to the spring to drink the water?  (pgs. 40-41/pg. 8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1. What decision does Winnie come to about the Tucks’ secret?  Why?  (pg. 41/pg. 8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. What does Miles want to do with his life?  (pg. 42/pgs. 86-8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3. Why do you think Winnie feels that Tuck is “the dearest of them all”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. What is the Tucks’ reaction when they hear a knock at their door?  Why?  (pg. 44/pg. 9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5. Who shows up at their door?  (pg. 44/pg. 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6. Who told the man in the yellow suit stories about the strange family that never grew old?     (pg. 45/pg. 9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. How did she (#65) come to hear these stories? (pg. 45/    pgs. 94-9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8. What clue led the man to search for the family that never grew old?  (pgs. 45-46/pg. 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9. What does the man in the yellow suit plan to do with the water?  (pg. 46/pg. 9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9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0. How does he want the Tucks to help him?  (pg. 47/ pg. 9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1. What does Mae do to the man in the yellow suit?  Why?       (pg. 48/pg. 10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2. What is Winnie’s response to the constable when he accuses Mae of kidnapping her?  (pg. 48/ pg. 102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3. What does the constable say would happen to Mae if the man dies?  (pg. 49/pg. 103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74. What realization does Winnie come to regarding Mae’s fate?  (pg. 50/pg. 105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5. Why does Winnie feel ‘different’ than she did before leaving home?  (pg. 51/pg. 10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6. What news does the constable deliver to the Fosters?           (pg. 52/pg. 10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at way was the wood strange?  (pg. 4/pg.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n’t the people go through the wood?  (pg. 4/pg. 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11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ould the people have noticed if they had gone into the wood?  (pg. 5/pg. 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7. What does Winnie see across the road from her cottage?    (pg. 53/pg. 1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8. Who comes by to say goodbye to Winnie?  (pg. 54/pg. 1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9. What is Miles’s plan?           (pg. 54/ pg. 113-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. What is it about their plan that worries them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. What does Jesse give Winnie?  What does he want Winnie to do with it?  (pg. 54/pg. 114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2. What idea does Winnie have to help Mae?  (pg. 54/pg. 1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3. Why does Winnie feel so much guilt about what she’s about to do?  (pg. 56/pg. 118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4. What is it about her family that worries Winnie? (pg. 56/pg. 1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5. How does the weather affect the jailbreak?                        (pg. 59/pgs. 124-125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6. How did Winnie’s parents react when they first found out about Winnie’s part in the escape?   (pg. 61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7. What explanation did Winnie give to her parents? (pg. 61/    pg. 130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5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8. How did her family’s reaction change upon hearing her explanation? 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9. What were the ‘benefits’ for Winnie for doing what she did? (pg. 62/pg. 1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. What did Winnie do to the toad? Why? (p. 63/pgs.132-1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1. How can you tell that the events in the epilogue take place many years after those in the rest of the story? Cite specific evidence.  (pgs. 63-64/          pgs. 134-1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cont.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pilogue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2. What happened to the Fosters’ wood?  (pg. 64/pg. 13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3. What decision did Winnie make about the water?  How do you know?  (pg. 65/pg. 13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4. What did Mae and Tuck see in the middle of the road?  What did Tuck do with it? (pg. 66/pg. 13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79640" y="318600"/>
            <a:ext cx="3353040" cy="1143000"/>
          </a:xfrm>
          <a:prstGeom prst="rect">
            <a:avLst/>
          </a:prstGeom>
          <a:solidFill>
            <a:srgbClr val="ffffff">
              <a:alpha val="68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47800" y="1599840"/>
            <a:ext cx="7418160" cy="2957400"/>
          </a:xfrm>
          <a:prstGeom prst="rect">
            <a:avLst/>
          </a:prstGeom>
          <a:solidFill>
            <a:srgbClr val="ffffff">
              <a:alpha val="72000"/>
            </a:srgbClr>
          </a:solidFill>
          <a:ln w="19080">
            <a:solidFill>
              <a:srgbClr val="66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astprovidencelibrary.com/natalie_babbitt.ht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green.upper-arlington.k12.oh.us/ohioauthors/babbitt,natalie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/24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glish.byu.edu/Novelinks/reading%20strategies/tuck%20everlasting/Tuck%20Everlasting.ht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6/25/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terature Study Gu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ck Everl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entice Hall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at dream is Tuck having when  Mae wakes him?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What is Mae’s response to Tuck’s description of the dream?               (pg. 6/pg.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When and why does Mae set out for the wood?  (pgs. 5 &amp; 6/pgs. 9 &amp; 10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How long has it been since Mae went to Treegap?  (pg. 6/pg. 10)    [cont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2 (Cont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9. How does Tuck feel about Mae going to the wood to meet her sons?  (pg. 6/pg. 10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0. What does Mae take with her (one pretty thing she owns)?      (pg. 6/p. 11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11. What is the strangest thing about the Tuck family?           (pg. 7/pg. 12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94489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 To whom does Winnie complain?  (pg. 7/pg. 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 What does she complain ab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g. 8/pgs. 14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What does she plan to do in the morning?  (pg. 8/pg. 15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5. Who appears at the Fosters’  gate at sunset?  (pg. 8/ pg. 17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6. What is he looking for? (p.9/p.19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7. What do they hear coming from the wood?  What does Winnie’s grandmother say it is?  What does Winnie say it sounds like?  (pg. 10/ pgs. 20-2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. Why does Winnie decide not to run away?  (pg. 11/pg. 2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. Whom does Winnie meet in the wood?  (pg. 14/ pg. 2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. How old does he say he is at first?  How old does he say he is after Winnie persists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. How old is Winnie?  (pg. 14/pg.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2. What gets Jesse upset? (p.15/p.2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. How was Winnie’s visions of being kidnapped different from the actual situation? (p. 16/p. 3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. Whom does Winnie see stand-ing on the road?  (pg. 16/pg. 3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. What calms Winnie down?   (pg. 17/pg. 3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7:22:40Z</dcterms:created>
  <dc:creator>Audra Robertson</dc:creator>
  <dc:description/>
  <dc:language>en-US</dc:language>
  <cp:lastModifiedBy>Jennifer Polito</cp:lastModifiedBy>
  <dcterms:modified xsi:type="dcterms:W3CDTF">2013-12-16T20:20:39Z</dcterms:modified>
  <cp:revision>47</cp:revision>
  <dc:subject>Language Arts</dc:subject>
  <dc:title>Tuck Everlasting</dc:title>
</cp:coreProperties>
</file>