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8C43-8C42-429C-8566-AAA459BA89A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0937-3298-4A83-B7EB-4FFB8EECF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41BC-0B20-4349-B835-A0D914651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8FB2-7293-4789-942E-DFB5B74B4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C2A8-A489-4D2F-8379-A4681DFE2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BA04-987E-4FCE-B3C5-C830D9403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D6E7-C741-4A1B-9A59-711E3750C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5C5B-B628-473A-A603-7A2409644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2344-B69C-467F-984E-D93B252C9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6B5A-4A20-4767-8036-2722BE01C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1992-C87F-4FD7-A42C-ED81A11E4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334B-1F53-456E-BE8B-4BC1142E1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A48D-C28D-4242-90A3-8239A443C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D749-15C0-4F3C-8107-C660455A3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D07F-CFA1-4F70-89F1-C6687DD9F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41CA-38D5-48E3-B263-28FA45DFD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42E4-726B-4012-93E4-8BFA383CA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8103-22A6-498F-A962-DD04F5776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1A8A-0E59-4DC4-9C84-17E42529F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04EF-9942-4FB9-B5A8-F85777A6C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22C6-E112-486A-B8B6-5CDCB0D56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E529-0499-44C0-8578-E4B08CD61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C321-31D5-4EE7-A0BF-53026A6EF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2E02-B378-4A6B-BE9C-D78B31E50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01D5-679F-4F31-82F5-C3B2553FB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CD24-B020-4A7F-9267-AA43B11EB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FD58-8FBA-46D7-912D-B66635A33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F071-7547-4570-AB16-750E7D6E1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5D26-453C-4C01-8A27-0D9265B43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E56B-6209-4917-BDCB-98DFEC875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8797-685E-4F01-AD4E-F6CA95014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5B6A-41F2-46C0-BBEA-BF2E5FB2B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A44B-87C5-4C21-8082-24C576521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AB0A-66DF-495A-8DEA-E4EB4850F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3B4D-3B10-4BC9-8CFF-411FF235F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8410-6E0F-4336-913E-D09BBEBDB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84F1-5B20-4D82-ACDE-03D011A29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8C6A-FD52-46E9-980E-5B594F8F0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76E5-AA60-45EC-9EDB-0F5818AA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73A2-55C6-4B07-999D-6F6AC092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5DE9-6B85-43A7-89EA-0E537BB2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3E7A-1E3C-4AA5-9569-3C505986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01EB-C939-4D9D-B173-CC15F3E6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FCA-E590-41A1-BE94-85A443D0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8C6F-C3D5-4899-94C4-8A9768E9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50D-9BD7-4BC2-8B0B-1ECA0F7E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F24-00FB-4FD0-AE06-FCA6A9E8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D3C-017E-40A1-B970-F7AEDD6D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A58-832C-4422-AD1D-2D113C15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D5FB-6A0B-4565-8DF1-92388A78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407D-C5F4-4A34-9187-F931D2D68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astprovidencelibrary.com/natalie_babbitt.htm" TargetMode="External"/><Relationship Id="rId2" Type="http://schemas.openxmlformats.org/officeDocument/2006/relationships/hyperlink" Target="http://green.upper-arlington.k12.oh.us/ohioauthors/babbitt,natalie.htm" TargetMode="External"/><Relationship Id="rId3" Type="http://schemas.openxmlformats.org/officeDocument/2006/relationships/hyperlink" Target="http://english.byu.edu/Novelinks/reading%20strategies/tuck%20everlasting/Tuck%20Everlasting.ht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tuckname"/>
          <p:cNvPicPr/>
          <p:nvPr/>
        </p:nvPicPr>
        <p:blipFill>
          <a:blip r:embed="rId1"/>
          <a:stretch/>
        </p:blipFill>
        <p:spPr>
          <a:xfrm>
            <a:off x="1630440" y="395280"/>
            <a:ext cx="6095880" cy="1263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images middle tuck cover"/>
          <p:cNvPicPr/>
          <p:nvPr/>
        </p:nvPicPr>
        <p:blipFill>
          <a:blip r:embed="rId2"/>
          <a:stretch/>
        </p:blipFill>
        <p:spPr>
          <a:xfrm>
            <a:off x="2201760" y="1662120"/>
            <a:ext cx="4997520" cy="4386240"/>
          </a:xfrm>
          <a:prstGeom prst="rect">
            <a:avLst/>
          </a:prstGeom>
          <a:ln w="158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6. How long ago had the Tucks drunk the water from the spring?            (pg. 18/pg. 3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7. According to their story, everyone had a drink, except for the ______.  (pg. 19/pg. 3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8. When did they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ealize “there was something peculiar”?           (pg. 19/pg. 3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9. Why did Miles’s wife leave him?  (pg. 19/pg. 39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[cont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7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. What made the Tucks realize that the spring was “the source of their changelessness”?  (pg. 20/pg. 4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1. When they came to that conclusion, what did Angus Tuck do to make sure?  (pg. 20/pg. 4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2. What is Angus Tuck’s explanation for the spring?  (pg. 20/pg. 4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3. How is Jesse’s attitude toward immortality different from that of Miles?  (pg. 21 /pg. 4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4. Why does Mae want to take Winnie home with her?  (pg. 21/pg. 4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5. Who has been following the Tucks and heard their entire story?          (pg. 22/pg. 4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6. What kind of a child does Tuck say Winnie is?  (pg. 24/pg. 48)  What does he mean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7. How does Tuck react upon meeting Winnie?  (pg. 24/pg. 4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8. How does Winnie feel upon meeting Tuck?  (pg. 24/pg. 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9. How is Winnie’s home different from the Tucks’?  (pgs. 24-25/ pgs. 50-5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. Why can’t the Tucks settle down at one place? (p. 26/p. 5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. How long have they lived in that house?  (pg. 26/pg. 5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0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. How often do Miles and Jesse come home?  (pg. 27/pg. 5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3. What is Mae’s attitude toward immortality?  How does she deal with it?  (pg. 27/pgs. 54-5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4. What is Winnie not allowed to do at home at mealtime that suddenly makes the meal at the Tucks seem “luxurious”?  (pg. 28/pg. 5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. What ‘rule’ does Winnie notice at mealtime?  (p. 28/p. 5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. How and why does Winnie’s attitude towards the Tucks change?    (pg. 28/pg. 5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7. Tuck tells Winnie, “Everything’s a _______, turning and turning, never stopping….” (p. 30/p. 62)  What does he mean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8. Tuck says to Winnie, “We just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we just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ike rocks beside the road.”  What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used here?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9. Why does Tuck want Winnie to keep their secret? (pgs. 31-32/p. 6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. Who steals the Tucks’ horse?  Where does he take the horse?  (pg. 32/pg. 6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1. What does he say to Winnie’s grandmother?  (pg. 32/pg. 6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2. Who is the last person to visit Winnie as she tries to fall asleep?  What does he want?               (pg. 35/pgs. 71-7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lo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Wha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ing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ppened in the first week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August that seemed t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no connection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t fir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g. 3/pg. 4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Pj01445100000[1]"/>
          <p:cNvPicPr/>
          <p:nvPr/>
        </p:nvPicPr>
        <p:blipFill>
          <a:blip r:embed="rId1"/>
          <a:stretch/>
        </p:blipFill>
        <p:spPr>
          <a:xfrm>
            <a:off x="5105520" y="4191120"/>
            <a:ext cx="2298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3. What kind of a deal/trade does the man in the yellow suit want to make with the Fosters?      (pg. 36/pg. 7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4. How does he describe the Tucks to the Fosters?  (pg. 36/pg. 7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. Why doesn’t he want Mr. Foster to come along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6. Describe the constable’s suspicions.  (pg. 37/pg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7. What is the stranger’s explanation for not reporting the kidnapping right away?           (pg. 37/ pg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6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8. What is the constable’s reaction upon being told that the Fosters have sold their wood to the man in the yellow suit? Why?        (pg. 37/p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9. How far is the Tucks’ home from the Fosters’? (pg. 37/p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0. Why didn’t Miles take his family to the spring to drink the water?  (pgs. 40-41/pg. 8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1. What decision does Winnie come to about the Tucks’ secret?  Why?  (pg. 41/pg. 8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2. What does Miles want to do with his life?  (pg. 42/pgs. 86-8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3. Why do you think Winnie feels that Tuck is “the dearest of them all”?  (pg. 44/pg. 9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4. What is the Tucks’ reaction when they hear a knock at their door?  Why?  (pg. 44/pg. 9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5. Who shows up at their door?  (pg. 44/pg. 9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6. Who told the man in the yellow suit stories about the strange family that never grew old?     (pg. 45/pg. 9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7. How did she (#65) come to hear these stories? (pg. 45/    pgs. 94-9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9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8. What clue led the man to search for the family that never grew old?  (pgs. 45-46/pg. 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9. What does the man in the yellow suit plan to do with the water?  (pg. 46/pg. 9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9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0. How does he want the Tucks to help him?  (pg. 47/ pg. 9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1. What does Mae do to the man in the yellow suit?  Why?       (pg. 48/pg. 10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2. What is Winnie’s response to the constable when he accuses Mae of kidnapping her?  (pg. 48/ pg. 10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3. What does the constable say would happen to Mae if the man dies?  (pg. 49/pg. 103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4. What realization does Winnie come to regarding Mae’s fate?  (pg. 50/pg. 105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5. Why does Winnie feel ‘different’ than she did before leaving home?  (pg. 51/pg. 10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6. What news does the constable deliver to the Fosters?           (pg. 52/pg. 10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what way was the wood strange?  (pg. 4/pg. 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idn’t the people go through the wood?  (pg. 4/pg. 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ould the people have noticed if they had gone into the wood?  (pg. 5/pg. 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7. What does Winnie see across the road from her cottage?    (pg. 53/pg. 11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8. Who comes by to say goodbye to Winnie?  (pg. 54/pg. 1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9. What is Miles’s plan?           (pg. 54/ pg. 113-1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2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. What is it about their plan that worries them?  (pg. 54/pg. 1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1. What does Jesse give Winnie?  What does he want Winnie to do with it?  (pg. 54/pg. 114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2. What idea does Winnie have to help Mae?  (pg. 54/pg. 1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3. Why does Winnie feel so much guilt about what she’s about to do?  (pg. 56/pg. 118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4. What is it about her family that worries Winnie? (pg. 56/pg. 11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5. How does the weather affect the jailbreak?                        (pg. 59/pgs. 124-125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6. How did Winnie’s parents react when they first found out about Winnie’s part in the escape?   (pg. 61/pg. 1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7. What explanation did Winnie give to her parents? (pg. 61/    pg. 130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5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8. How did her family’s reaction change upon hearing her explanation?  (pg. 62/pg. 1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9. What were the ‘benefits’ for Winnie for doing what she did? (pg. 62/pg. 1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0. What did Winnie do to the toad? Why? (p. 63/pgs.132-13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pilo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1. How can you tell that the events in the epilogue take place many years after those in the rest of the story? Cite specific evidence.  (pgs. 63-64/          pgs. 134-13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pilogue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2. What happened to the Fosters’ wood?  (pg. 64/pg. 13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3. What decision did Winnie make about the water?  How do you know?  (pg. 65/pg. 13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4. What did Mae and Tuck see in the middle of the road?  What did Tuck do with it? (pg. 66/pg. 13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79640" y="318600"/>
            <a:ext cx="3353040" cy="1143000"/>
          </a:xfrm>
          <a:prstGeom prst="rect">
            <a:avLst/>
          </a:prstGeom>
          <a:solidFill>
            <a:srgbClr val="ffffff">
              <a:alpha val="68000"/>
            </a:srgbClr>
          </a:solidFill>
          <a:ln w="1908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47800" y="1599840"/>
            <a:ext cx="7418160" cy="2957400"/>
          </a:xfrm>
          <a:prstGeom prst="rect">
            <a:avLst/>
          </a:prstGeom>
          <a:solidFill>
            <a:srgbClr val="ffffff">
              <a:alpha val="72000"/>
            </a:srgbClr>
          </a:solidFill>
          <a:ln w="1908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astprovidencelibrary.com/natalie_babbitt.ht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6/24/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green.upper-arlington.k12.oh.us/ohioauthors/babbitt,natalie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/24/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glish.byu.edu/Novelinks/reading%20strategies/tuck%20everlasting/Tuck%20Everlasting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6/25/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iterature Study Gu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uck Everla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entice Hall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9448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What dream is Tuck having when  Mae wakes him?  (pg. 6/pg.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What is Mae’s response to Tuck’s description of the dream?               (pg. 6/pg.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When and why does Mae set out for the wood?  (pgs. 5 &amp; 6/pgs. 9 &amp; 10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How long has it been since Mae went to Treegap?  (pg. 6/pg. 10)    [cont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9. How does Tuck feel about Mae going to the wood to meet her sons?  (pg. 6/pg. 10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10. What does Mae take with her (one pretty thing she owns)?      (pg. 6/p. 11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11. What is the strangest thing about the Tuck family?           (pg. 7/pg. 12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9448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 To whom does Winnie complain?  (pg. 7/pg. 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 What does she complain ab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g. 8/pgs. 14-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 What does she plan to do in the morning?  (pg. 8/pg. 15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5. Who appears at the Fosters’  gate at sunset?  (pg. 8/ pg. 17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6. What is he looking for? (p.9/p.19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7. What do they hear coming from the wood?  What does Winnie’s grandmother say it is?  What does Winnie say it sounds like?  (pg. 10/ pgs. 20-21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. Why does Winnie decide not to run away?  (pg. 11/pg. 2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. Whom does Winnie meet in the wood?  (pg. 14/ pg. 2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. How old does he say he is at first?  How old does he say he is after Winnie persists?  (pg. 14/pg. 2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1. How old is Winnie?  (pg. 14/pg. 2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2. What gets Jesse upset? (p.15/p.2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. How was Winnie’s visions of being kidnapped different from the actual situation? (p. 16/p. 3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. Whom does Winnie see stand-ing on the road?  (pg. 16/pg. 3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. What calms Winnie down?   (pg. 17/pg. 3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7:22:40Z</dcterms:created>
  <dc:creator>Audra Robertson</dc:creator>
  <dc:description/>
  <dc:language>en-US</dc:language>
  <cp:lastModifiedBy>Jennifer Polito</cp:lastModifiedBy>
  <dcterms:modified xsi:type="dcterms:W3CDTF">2013-12-16T20:20:39Z</dcterms:modified>
  <cp:revision>47</cp:revision>
  <dc:subject>Language Arts</dc:subject>
  <dc:title>Tuck Everlasting</dc:title>
</cp:coreProperties>
</file>