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E82A-2053-4D34-972B-56EA7FD800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3A8-AE40-466B-BDD6-117BBB6C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E9CE-9929-4FD0-86AE-6E203F3F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E82-0E0C-44F0-BA0B-D37C9B5DC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1465-3BF9-4AB9-A90C-7F7E21FEE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8CA6-CEA3-4B1D-828D-8359BF4D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63F-E0C1-4FCF-A34F-B22EFFAD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833A-074E-47D4-A8C8-7B0182F1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F932-966E-41D2-AEA2-01EF9D4D3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CAF-6A78-4C86-88D5-BA5FC7DE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7757-179B-4F6F-A1B7-3FC594BFC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133F-CC13-4D2F-A2A9-E9DBEC85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75B7-3E72-443F-82FA-485803B3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D890-4E7F-4967-8119-1DFE0AE7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7ED-A384-40FD-8FE5-53CDECA54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F8C-D7C9-4101-A09D-6E9856D4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94F9-AC32-49CF-A148-BC5F79F6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0573-1043-443B-BFD1-2302969F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12B4-3CB8-409A-B994-29C0C7EE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ED4C-A896-4A15-A932-A7C6CB8B1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20C0-BA75-4FD4-A213-EBD63EAC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F99-15ED-403C-BD87-25AC8AEAA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CEB5-4C81-4A60-8338-76576339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EB01-1A63-4315-B05E-F453ECFF5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36FA-82D3-4C0B-B30E-5900F954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B5D7-F229-4DA7-BBA9-5548C8C22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204E-3781-47FD-BA39-BB34344FC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A05-71C6-4D29-AA27-59B6160AD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24E9-7532-4A62-8884-091A13C72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BA17-B382-4DA1-9E0E-42F1D4A19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5F36-452D-4C75-BE93-6D3631EC4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D345-6B8F-4664-AC28-3603B2F9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C75-588B-4D7F-9072-C1CF5A06A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373-46E0-4162-9E26-789D4126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950A-CD09-4613-99DD-75CFDB70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BFA7-5906-44D9-ADBC-7A7F36071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5838-91BF-4F3E-893B-1ED0E249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4E12-8A63-40C3-9955-56955303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2B0-A468-4CCF-AB96-5F5E1BFA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E6D-3281-4417-83C9-274ED86C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FE6-DA82-4BF6-9227-278733E6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D25-DF91-4DF6-A84C-D8538306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19F-A43A-4E87-A04D-F49DE2BB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8C2-F776-4496-BE7C-283A4DE4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049-2FF6-4ACA-9D90-C8A53478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843-1F8B-47CA-8DF4-9E958902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86F-247A-49FD-B73B-6E6FAD07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81D-5057-4A39-958D-F6A32CD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201-A1A6-4F99-BA3E-2F34B70A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3EE-18F5-4773-9289-AC8EFF79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AF12-2749-47DC-A605-DA06C6BC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astprovidencelibrary.com/natalie_babbitt.htm" TargetMode="External"/><Relationship Id="rId2" Type="http://schemas.openxmlformats.org/officeDocument/2006/relationships/hyperlink" Target="http://green.upper-arlington.k12.oh.us/ohioauthors/babbitt,natalie.htm" TargetMode="External"/><Relationship Id="rId3" Type="http://schemas.openxmlformats.org/officeDocument/2006/relationships/hyperlink" Target="http://english.byu.edu/Novelinks/reading%20strategies/tuck%20everlasting/Tuck%20Everlasting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uckname"/>
          <p:cNvPicPr/>
          <p:nvPr/>
        </p:nvPicPr>
        <p:blipFill>
          <a:blip r:embed="rId1"/>
          <a:stretch/>
        </p:blipFill>
        <p:spPr>
          <a:xfrm>
            <a:off x="1630440" y="395280"/>
            <a:ext cx="6095880" cy="12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images middle tuck cover"/>
          <p:cNvPicPr/>
          <p:nvPr/>
        </p:nvPicPr>
        <p:blipFill>
          <a:blip r:embed="rId2"/>
          <a:stretch/>
        </p:blipFill>
        <p:spPr>
          <a:xfrm>
            <a:off x="2201760" y="1662120"/>
            <a:ext cx="4997520" cy="4386240"/>
          </a:xfrm>
          <a:prstGeom prst="rect">
            <a:avLst/>
          </a:prstGeom>
          <a:ln w="158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. How long ago had the Tucks drunk the water from the spring?            (pg. 18/pg. 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. According to their story, everyone had a drink, except for the ______.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. When did they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alize “there was something peculiar”?         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. Why did Miles’s wife leave him?  (pg. 19/pg. 3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. What made the Tucks realize that the spring was “the source of their changelessness”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. When they came to that conclusion, what did Angus Tuck do to make sure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. What is Angus Tuck’s explanation for the spring?  (pg. 20/pg. 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. How is Jesse’s attitude toward immortality different from that of Miles?  (pg. 21 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. Why does Mae want to take Winnie home with her?  (pg. 21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. Who has been following the Tucks and heard their entire story?          (pg. 22/pg. 4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. What kind of a child does Tuck say Winnie is?  (pg. 24/pg. 48)  What does he mea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7. How does Tuck react upon meeting Winnie?  (pg. 24/pg. 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. How does Winnie feel upon meeting Tuck?  (pg. 24/pg. 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9. How is Winnie’s home different from the Tucks’?  (pgs. 24-25/ pgs. 50-5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. Why can’t the Tucks settle down at one place? (p. 26/p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. How long have they lived in that house?  (pg. 26/pg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 How often do Miles and Jesse come home?  (pg. 27/pg. 5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3. What is Mae’s attitude toward immortality?  How does she deal with it?  (pg. 27/pgs. 54-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4. What is Winnie not allowed to do at home at mealtime that suddenly makes the meal at the Tucks seem “luxurious”?  (pg. 28/pg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. What ‘rule’ does Winnie notice at mealtime?  (p. 28/p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. How and why does Winnie’s attitude towards the Tucks change?    (pg. 28/pg. 5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. Tuck tells Winnie, “Everything’s a _______, turning and turning, never stopping….” (p. 30/p. 62)  What does he mean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8. Tuck says to Winnie, “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ike rocks beside the road.”  Wha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used here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9. Why does Tuck want Winnie to keep their secret? (pgs. 31-32/p. 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. Who steals the Tucks’ horse?  Where does he take the horse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1. What does he say to Winnie’s grandmother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2. Who is the last person to visit Winnie as she tries to fall asleep?  What does he want?               (pg. 35/pgs. 71-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Wha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ened in the first wee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August that seemed 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no connec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3/pg. 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j01445100000[1]"/>
          <p:cNvPicPr/>
          <p:nvPr/>
        </p:nvPicPr>
        <p:blipFill>
          <a:blip r:embed="rId1"/>
          <a:stretch/>
        </p:blipFill>
        <p:spPr>
          <a:xfrm>
            <a:off x="5105520" y="4191120"/>
            <a:ext cx="22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3. What kind of a deal/trade does the man in the yellow suit want to make with the Fosters?      (pg. 36/pg. 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. How does he describe the Tucks to the Fosters?  (pg. 36/pg. 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. Why doesn’t he want Mr. Foster to come along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. Describe the constable’s suspicions.  (pg. 37/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7. What is the stranger’s explanation for not reporting the kidnapping right away?           (pg. 37/ 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. What is the constable’s reaction upon being told that the Fosters have sold their wood to the man in the yellow suit? Why?       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9. How far is the Tucks’ home from the Fosters’?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. Why didn’t Miles take his family to the spring to drink the water?  (pgs. 40-41/pg. 8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1. What decision does Winnie come to about the Tucks’ secret?  Why?  (pg. 41/pg. 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. What does Miles want to do with his life?  (pg. 42/pgs. 86-8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. Why do you think Winnie feels that Tuck is “the dearest of them all”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. What is the Tucks’ reaction when they hear a knock at their door?  Why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. Who shows up at their door?  (pg. 44/pg. 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6. Who told the man in the yellow suit stories about the strange family that never grew old?     (pg. 45/pg. 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. How did she (#65) come to hear these stories? (pg. 45/    pgs. 94-9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. What clue led the man to search for the family that never grew old?  (pgs. 45-46/pg. 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. What does the man in the yellow suit plan to do with the water?  (pg. 46/pg. 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. How does he want the Tucks to help him?  (pg. 47/ pg. 9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1. What does Mae do to the man in the yellow suit?  Why?       (pg. 48/pg. 1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2. What is Winnie’s response to the constable when he accuses Mae of kidnapping her?  (pg. 48/ pg. 1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3. What does the constable say would happen to Mae if the man dies?  (pg. 49/pg. 103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4. What realization does Winnie come to regarding Mae’s fate?  (pg. 50/pg. 105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5. Why does Winnie feel ‘different’ than she did before leaving home?  (pg. 51/pg. 1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6. What news does the constable deliver to the Fosters?           (pg. 52/pg. 1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 was the wood strange?  (pg. 4/pg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n’t the people go through the wood?  (pg. 4/pg.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the people have noticed if they had gone into the wood?  (pg. 5/pg.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7. What does Winnie see across the road from her cottage?    (pg. 53/pg. 1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8. Who comes by to say goodbye to Winnie?  (pg. 54/pg. 1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. What is Miles’s plan?           (pg. 54/ pg. 113-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 What is it about their plan that worries them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 What does Jesse give Winnie?  What does he want Winnie to do with it?  (pg. 54/pg. 11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2. What idea does Winnie have to help Mae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3. Why does Winnie feel so much guilt about what she’s about to do?  (pg. 56/pg. 118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4. What is it about her family that worries Winnie? (pg. 56/pg. 1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5. How does the weather affect the jailbreak?                        (pg. 59/pgs. 124-125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6. How did Winnie’s parents react when they first found out about Winnie’s part in the escape?   (pg. 61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7. What explanation did Winnie give to her parents? (pg. 61/    pg. 13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8. How did her family’s reaction change upon hearing her explanation? 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9. What were the ‘benefits’ for Winnie for doing what she did?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. What did Winnie do to the toad? Why? (p. 63/pgs.132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1. How can you tell that the events in the epilogue take place many years after those in the rest of the story? Cite specific evidence.  (pgs. 63-64/          pgs. 134-1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2. What happened to the Fosters’ wood?  (pg. 64/pg. 13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3. What decision did Winnie make about the water?  How do you know?  (pg. 65/pg. 1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. What did Mae and Tuck see in the middle of the road?  What did Tuck do with it? (pg. 66/pg. 1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79640" y="318600"/>
            <a:ext cx="3353040" cy="1143000"/>
          </a:xfrm>
          <a:prstGeom prst="rect">
            <a:avLst/>
          </a:prstGeom>
          <a:solidFill>
            <a:srgbClr val="ffffff">
              <a:alpha val="68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7800" y="1599840"/>
            <a:ext cx="7418160" cy="2957400"/>
          </a:xfrm>
          <a:prstGeom prst="rect">
            <a:avLst/>
          </a:prstGeom>
          <a:solidFill>
            <a:srgbClr val="ffffff">
              <a:alpha val="72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astprovidencelibrary.com/natalie_babbitt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een.upper-arlington.k12.oh.us/ohioauthors/babbitt,natalie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glish.byu.edu/Novelinks/reading%20strategies/tuck%20everlasting/Tuck%20Everlasting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5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terature Study Gu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ck Everl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ntice Hall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at dream is Tuck having when  Mae wakes him?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hat is Mae’s response to Tuck’s description of the dream?             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hen and why does Mae set out for the wood?  (pgs. 5 &amp; 6/pgs. 9 &amp; 10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How long has it been since Mae went to Treegap?  (pg. 6/pg. 10)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9. How does Tuck feel about Mae going to the wood to meet her sons?  (pg. 6/pg. 10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0. What does Mae take with her (one pretty thing she owns)?      (pg. 6/p. 11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1. What is the strangest thing about the Tuck family?           (pg. 7/pg. 12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To whom does Winnie complain?  (pg. 7/pg. 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What does she complain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8/pgs. 14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at does she plan to do in the morning?  (pg. 8/pg. 15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5. Who appears at the Fosters’  gate at sunset?  (pg. 8/ pg. 17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6. What is he looking for? (p.9/p.1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7. What do they hear coming from the wood?  What does Winnie’s grandmother say it is?  What does Winnie say it sounds like?  (pg. 10/ pgs. 20-2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y does Winnie decide not to run away?  (pg. 11/pg. 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om does Winnie meet in the wood?  (pg. 14/ pg. 2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How old does he say he is at first?  How old does he say he is after Winnie persists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How old is Winnie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gets Jesse upset? (p.15/p.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How was Winnie’s visions of being kidnapped different from the actual situation? (p. 16/p. 3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. Whom does Winnie see stand-ing on the road?  (pg. 16/pg. 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. What calms Winnie down?   (pg. 17/pg. 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7:22:40Z</dcterms:created>
  <dc:creator>Audra Robertson</dc:creator>
  <dc:description/>
  <dc:language>en-US</dc:language>
  <cp:lastModifiedBy>Jennifer Polito</cp:lastModifiedBy>
  <dcterms:modified xsi:type="dcterms:W3CDTF">2013-12-16T20:20:39Z</dcterms:modified>
  <cp:revision>47</cp:revision>
  <dc:subject>Language Arts</dc:subject>
  <dc:title>Tuck Everlasting</dc:title>
</cp:coreProperties>
</file>