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61D3-23F9-420B-BC6D-BBED96B7F4F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7763-8A51-4A17-AA5F-05371B74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9418-59AA-4087-A5AB-DE0DA9C93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6F3A-8EA1-4C03-8158-29F54413D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570A-934D-4B87-8426-FEE8F48EC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A474-94F3-45A4-9BCB-2E742CA4C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8B38-785E-49D0-9CA7-6193060CA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8BA1-A01D-4108-89E4-CE10B408D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E499-8150-42A4-9D19-C57FA705B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2F93-0BAE-4150-84DB-4C8AB9D7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23A2-84D4-4F8D-B237-BDF400B9F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F72-1B0B-4F00-BEC5-640B97B7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2B62-CAE2-41F5-9DC2-B457D0DCC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78F2-C03F-4015-BD98-ACD760AC9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3151-1D43-4382-915C-C03AD059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9F44-DA0C-4BDE-8303-6DC507CE8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6266-8B41-4BD7-A10F-03CEDDC36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C480-0071-4484-BF85-8DC7A325A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9F8D-F822-4329-9C1B-D5E74AF4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2D76-6208-42E8-9F3A-7F6A8BA73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72E1-8F04-4AA8-A9F8-82352CDAB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F34-0861-4783-93F2-260F1E1CE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F4C2-5303-4642-A9DD-2A250D051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CAD7-DD1E-4C29-AE14-3043DAAA7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8C1-DA63-4EB2-9DB8-9FFA05AF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6C86-66DB-4583-A30C-D19C77AC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71CA-4CE0-424C-B1C2-F6167D3FA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7C02-6FC1-46D5-A88B-7F94A6B6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CC60-719C-4BBB-8667-24041713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3C89-9AE4-4AAF-8DA6-C58625938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5A15-A731-4BF5-A87A-8CBFA199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8395-1825-4BC8-8ACC-C4810F7C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F2A-A570-4F8E-A29E-6973E25C1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3C82-FBA8-449B-8DEB-0408561F2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0DED-1F69-4C33-8C72-09FA42820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49E9-42F8-468F-BCD1-CFD405537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5336-AEE8-4282-BE5D-E3CA7AFD5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D4DD-725B-4F46-B9BC-C4732586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241-7B7E-4A77-AFC8-9DE4F025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CC7-7E21-4A77-8CB0-D108DEB0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DF8-83ED-4FE9-A01B-4E63B268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CEF-CE23-4982-81D2-08BA62F2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C50-6A7C-4820-B920-6E0B56DB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EEF-1501-45D6-BD78-DA09E42B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D1B-0975-4801-813F-474D7240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78B-9E49-4036-865B-9F9C1E96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606-6C43-49A0-9D1B-D2FA5D0F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262-9564-4358-B2DD-D86BDDA1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C9F-6225-4469-8C62-616235C6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C27-5F19-4120-BB1D-9AD54E2D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B3FF-76ED-4215-9B4B-96520B9A3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astprovidencelibrary.com/natalie_babbitt.htm" TargetMode="External"/><Relationship Id="rId2" Type="http://schemas.openxmlformats.org/officeDocument/2006/relationships/hyperlink" Target="http://green.upper-arlington.k12.oh.us/ohioauthors/babbitt,natalie.htm" TargetMode="External"/><Relationship Id="rId3" Type="http://schemas.openxmlformats.org/officeDocument/2006/relationships/hyperlink" Target="http://english.byu.edu/Novelinks/reading%20strategies/tuck%20everlasting/Tuck%20Everlasting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uckname"/>
          <p:cNvPicPr/>
          <p:nvPr/>
        </p:nvPicPr>
        <p:blipFill>
          <a:blip r:embed="rId1"/>
          <a:stretch/>
        </p:blipFill>
        <p:spPr>
          <a:xfrm>
            <a:off x="1630440" y="395280"/>
            <a:ext cx="6095880" cy="126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images middle tuck cover"/>
          <p:cNvPicPr/>
          <p:nvPr/>
        </p:nvPicPr>
        <p:blipFill>
          <a:blip r:embed="rId2"/>
          <a:stretch/>
        </p:blipFill>
        <p:spPr>
          <a:xfrm>
            <a:off x="2201760" y="1662120"/>
            <a:ext cx="4997520" cy="4386240"/>
          </a:xfrm>
          <a:prstGeom prst="rect">
            <a:avLst/>
          </a:prstGeom>
          <a:ln w="158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. How long ago had the Tucks drunk the water from the spring?            (pg. 18/pg. 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. According to their story, everyone had a drink, except for the ______.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. When did they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alize “there was something peculiar”?         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9. Why did Miles’s wife leave him?  (pg. 19/pg. 3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. What made the Tucks realize that the spring was “the source of their changelessness”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. When they came to that conclusion, what did Angus Tuck do to make sure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. What is Angus Tuck’s explanation for the spring?  (pg. 20/pg. 4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. How is Jesse’s attitude toward immortality different from that of Miles?  (pg. 21 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. Why does Mae want to take Winnie home with her?  (pg. 21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. Who has been following the Tucks and heard their entire story?          (pg. 22/pg. 4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. What kind of a child does Tuck say Winnie is?  (pg. 24/pg. 48)  What does he mean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7. How does Tuck react upon meeting Winnie?  (pg. 24/pg. 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. How does Winnie feel upon meeting Tuck?  (pg. 24/pg. 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9. How is Winnie’s home different from the Tucks’?  (pgs. 24-25/ pgs. 50-5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. Why can’t the Tucks settle down at one place? (p. 26/p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. How long have they lived in that house?  (pg. 26/pg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 How often do Miles and Jesse come home?  (pg. 27/pg. 5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3. What is Mae’s attitude toward immortality?  How does she deal with it?  (pg. 27/pgs. 54-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4. What is Winnie not allowed to do at home at mealtime that suddenly makes the meal at the Tucks seem “luxurious”?  (pg. 28/pg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. What ‘rule’ does Winnie notice at mealtime?  (p. 28/p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. How and why does Winnie’s attitude towards the Tucks change?    (pg. 28/pg. 5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7. Tuck tells Winnie, “Everything’s a _______, turning and turning, never stopping….” (p. 30/p. 62)  What does he mean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8. Tuck says to Winnie, “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ike rocks beside the road.”  Wha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used here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9. Why does Tuck want Winnie to keep their secret? (pgs. 31-32/p. 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. Who steals the Tucks’ horse?  Where does he take the horse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1. What does he say to Winnie’s grandmother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2. Who is the last person to visit Winnie as she tries to fall asleep?  What does he want?               (pg. 35/pgs. 71-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Wha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ened in the first wee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August that seemed 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no connec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3/pg. 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j01445100000[1]"/>
          <p:cNvPicPr/>
          <p:nvPr/>
        </p:nvPicPr>
        <p:blipFill>
          <a:blip r:embed="rId1"/>
          <a:stretch/>
        </p:blipFill>
        <p:spPr>
          <a:xfrm>
            <a:off x="5105520" y="4191120"/>
            <a:ext cx="22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3. What kind of a deal/trade does the man in the yellow suit want to make with the Fosters?      (pg. 36/pg. 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. How does he describe the Tucks to the Fosters?  (pg. 36/pg. 7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. Why doesn’t he want Mr. Foster to come along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. Describe the constable’s suspicions.  (pg. 37/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7. What is the stranger’s explanation for not reporting the kidnapping right away?           (pg. 37/ 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. What is the constable’s reaction upon being told that the Fosters have sold their wood to the man in the yellow suit? Why?       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9. How far is the Tucks’ home from the Fosters’?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. Why didn’t Miles take his family to the spring to drink the water?  (pgs. 40-41/pg. 8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1. What decision does Winnie come to about the Tucks’ secret?  Why?  (pg. 41/pg. 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. What does Miles want to do with his life?  (pg. 42/pgs. 86-8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. Why do you think Winnie feels that Tuck is “the dearest of them all”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. What is the Tucks’ reaction when they hear a knock at their door?  Why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. Who shows up at their door?  (pg. 44/pg. 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6. Who told the man in the yellow suit stories about the strange family that never grew old?     (pg. 45/pg. 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. How did she (#65) come to hear these stories? (pg. 45/    pgs. 94-9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. What clue led the man to search for the family that never grew old?  (pgs. 45-46/pg. 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. What does the man in the yellow suit plan to do with the water?  (pg. 46/pg. 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. How does he want the Tucks to help him?  (pg. 47/ pg. 9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1. What does Mae do to the man in the yellow suit?  Why?       (pg. 48/pg. 1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2. What is Winnie’s response to the constable when he accuses Mae of kidnapping her?  (pg. 48/ pg. 1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3. What does the constable say would happen to Mae if the man dies?  (pg. 49/pg. 103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4. What realization does Winnie come to regarding Mae’s fate?  (pg. 50/pg. 105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5. Why does Winnie feel ‘different’ than she did before leaving home?  (pg. 51/pg. 1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6. What news does the constable deliver to the Fosters?           (pg. 52/pg. 1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 was the wood strange?  (pg. 4/pg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n’t the people go through the wood?  (pg. 4/pg.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the people have noticed if they had gone into the wood?  (pg. 5/pg.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7. What does Winnie see across the road from her cottage?    (pg. 53/pg. 1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8. Who comes by to say goodbye to Winnie?  (pg. 54/pg. 1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. What is Miles’s plan?           (pg. 54/ pg. 113-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 What is it about their plan that worries them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 What does Jesse give Winnie?  What does he want Winnie to do with it?  (pg. 54/pg. 11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2. What idea does Winnie have to help Mae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3. Why does Winnie feel so much guilt about what she’s about to do?  (pg. 56/pg. 118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4. What is it about her family that worries Winnie? (pg. 56/pg. 1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5. How does the weather affect the jailbreak?                        (pg. 59/pgs. 124-125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6. How did Winnie’s parents react when they first found out about Winnie’s part in the escape?   (pg. 61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7. What explanation did Winnie give to her parents? (pg. 61/    pg. 130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8. How did her family’s reaction change upon hearing her explanation? 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9. What were the ‘benefits’ for Winnie for doing what she did?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. What did Winnie do to the toad? Why? (p. 63/pgs.132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1. How can you tell that the events in the epilogue take place many years after those in the rest of the story? Cite specific evidence.  (pgs. 63-64/          pgs. 134-1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2. What happened to the Fosters’ wood?  (pg. 64/pg. 13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3. What decision did Winnie make about the water?  How do you know?  (pg. 65/pg. 13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. What did Mae and Tuck see in the middle of the road?  What did Tuck do with it? (pg. 66/pg. 13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79640" y="318600"/>
            <a:ext cx="3353040" cy="1143000"/>
          </a:xfrm>
          <a:prstGeom prst="rect">
            <a:avLst/>
          </a:prstGeom>
          <a:solidFill>
            <a:srgbClr val="ffffff">
              <a:alpha val="68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7800" y="1599840"/>
            <a:ext cx="7418160" cy="2957400"/>
          </a:xfrm>
          <a:prstGeom prst="rect">
            <a:avLst/>
          </a:prstGeom>
          <a:solidFill>
            <a:srgbClr val="ffffff">
              <a:alpha val="72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astprovidencelibrary.com/natalie_babbitt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reen.upper-arlington.k12.oh.us/ohioauthors/babbitt,natalie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glish.byu.edu/Novelinks/reading%20strategies/tuck%20everlasting/Tuck%20Everlasting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5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terature Study Gu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ck Everl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entice Hall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at dream is Tuck having when  Mae wakes him?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hat is Mae’s response to Tuck’s description of the dream?             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hen and why does Mae set out for the wood?  (pgs. 5 &amp; 6/pgs. 9 &amp; 10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How long has it been since Mae went to Treegap?  (pg. 6/pg. 10)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9. How does Tuck feel about Mae going to the wood to meet her sons?  (pg. 6/pg. 10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0. What does Mae take with her (one pretty thing she owns)?      (pg. 6/p. 11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1. What is the strangest thing about the Tuck family?           (pg. 7/pg. 12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To whom does Winnie complain?  (pg. 7/pg. 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What does she complain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8/pgs. 14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at does she plan to do in the morning?  (pg. 8/pg. 15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5. Who appears at the Fosters’  gate at sunset?  (pg. 8/ pg. 17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6. What is he looking for? (p.9/p.1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7. What do they hear coming from the wood?  What does Winnie’s grandmother say it is?  What does Winnie say it sounds like?  (pg. 10/ pgs. 20-2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y does Winnie decide not to run away?  (pg. 11/pg. 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om does Winnie meet in the wood?  (pg. 14/ pg. 2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How old does he say he is at first?  How old does he say he is after Winnie persists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How old is Winnie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gets Jesse upset? (p.15/p.2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How was Winnie’s visions of being kidnapped different from the actual situation? (p. 16/p. 3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. Whom does Winnie see stand-ing on the road?  (pg. 16/pg. 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. What calms Winnie down?   (pg. 17/pg. 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7:22:40Z</dcterms:created>
  <dc:creator>Audra Robertson</dc:creator>
  <dc:description/>
  <dc:language>en-US</dc:language>
  <cp:lastModifiedBy>Jennifer Polito</cp:lastModifiedBy>
  <dcterms:modified xsi:type="dcterms:W3CDTF">2013-12-16T20:20:39Z</dcterms:modified>
  <cp:revision>47</cp:revision>
  <dc:subject>Language Arts</dc:subject>
  <dc:title>Tuck Everlasting</dc:title>
</cp:coreProperties>
</file>