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7581-0A78-4BAA-9C6C-9673EA5C183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ED33-E674-4B60-BC65-276DA5CF9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660D-A055-46EF-82E7-593A7A219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E778-E075-4EAD-A54F-E30D2F0C9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E356-D01A-4E4C-BA30-5C40C3D15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C9E1-F8A7-4FC7-AC57-006ABE546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EDCB-2779-415D-8C19-6B1F288E0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539E-3786-4785-83F4-181E3FC71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580C-7285-4441-BE89-E42C43171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E586-1DE4-4AE7-A4B5-72EA2EC0F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2A1C-C3DE-4EAF-ADD8-726C522E8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52B1-DCC9-45BD-8710-0070A6480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1F8C-46B9-4E8B-9D82-D0C8563DC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6565-0DA4-4E93-9A57-449ED8B2E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A92B-BB09-44D9-A7C7-6D12F209C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692D-8404-4FEF-94D9-823A5B387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CCBA-20CE-447E-9A51-7E10174CD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A505-6C16-4BF5-B222-F3E7ECAEA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1595-C5C2-45BB-A0BC-AB66D5263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A615-2575-4F67-892B-4F000AC00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7694-9069-4490-9F92-56DD9E392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E202-400D-490D-B0CC-C3F13E679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9210-5865-478B-9935-47B9909E8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C127-1E7F-41DD-9FA7-1A10D6B17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B9F8-4C01-4A66-94AC-E75D4EF06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8914-D540-49BC-9486-C83585BEC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2DC8-9DD0-4E2B-8A6C-5FCFED152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5E87-22D2-4A51-B632-1396643D5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4442-70F5-42A6-B269-A0BD0EC5F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FDBE-3D73-4797-A000-D494C72FF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755A-CD56-4AAA-AC27-E2B7B5B0C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D915-C9E7-4931-9489-BCD669452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10D0-977E-4B6A-A64B-733264ED4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523D-A8CA-441A-9B69-1C6F300F6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1EE9-FFE5-4FCB-BFC1-778023AE3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63D6-E85A-4438-BDC1-39F7364E6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7214-8042-457F-AE4C-D410681F1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C11E-6EC1-4CDE-8271-5ECA21A9F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3B4C-E429-4370-B725-36DFCDB7C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5BEB-D9CF-4CEA-9DC6-06D17C07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D82B-0579-4F73-8936-B712C701F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015E-70EE-48D0-A26C-9D91510F9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ADF9-9599-44BE-8D5F-ED3FEBF7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38A6-0103-441C-8BE9-CD6B2E1B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FC82-0D5E-4EB5-9FB8-4D175D80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4443-1909-4031-A47A-525A3000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0507-0992-486F-94B1-58747101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7D1A-916A-4C23-9258-4DC8C98C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C7F7-4A76-4102-8CFE-17AC384E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B7D5-95B1-4774-BB8E-1DA51D0F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DBC5-3DC0-48B4-8403-E03B57EC6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eastprovidencelibrary.com/natalie_babbitt.htm" TargetMode="External"/><Relationship Id="rId2" Type="http://schemas.openxmlformats.org/officeDocument/2006/relationships/hyperlink" Target="http://green.upper-arlington.k12.oh.us/ohioauthors/babbitt,natalie.htm" TargetMode="External"/><Relationship Id="rId3" Type="http://schemas.openxmlformats.org/officeDocument/2006/relationships/hyperlink" Target="http://english.byu.edu/Novelinks/reading%20strategies/tuck%20everlasting/Tuck%20Everlasting.ht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tuckname"/>
          <p:cNvPicPr/>
          <p:nvPr/>
        </p:nvPicPr>
        <p:blipFill>
          <a:blip r:embed="rId1"/>
          <a:stretch/>
        </p:blipFill>
        <p:spPr>
          <a:xfrm>
            <a:off x="1630440" y="395280"/>
            <a:ext cx="6095880" cy="1263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images middle tuck cover"/>
          <p:cNvPicPr/>
          <p:nvPr/>
        </p:nvPicPr>
        <p:blipFill>
          <a:blip r:embed="rId2"/>
          <a:stretch/>
        </p:blipFill>
        <p:spPr>
          <a:xfrm>
            <a:off x="2201760" y="1662120"/>
            <a:ext cx="4997520" cy="4386240"/>
          </a:xfrm>
          <a:prstGeom prst="rect">
            <a:avLst/>
          </a:prstGeom>
          <a:ln w="158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6. How long ago had the Tucks drunk the water from the spring?            (pg. 18/pg. 3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7. According to their story, everyone had a drink, except for the ______.  (pg. 19/pg. 3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8. When did they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irs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realize “there was something peculiar”?           (pg. 19/pg. 3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9. Why did Miles’s wife leave him?  (pg. 19/pg. 39)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[cont.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7 (Cont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. What made the Tucks realize that the spring was “the source of their changelessness”?  (pg. 20/pg. 4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1. When they came to that conclusion, what did Angus Tuck do to make sure?  (pg. 20/pg. 4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2. What is Angus Tuck’s explanation for the spring?  (pg. 20/pg. 4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3. How is Jesse’s attitude toward immortality different from that of Miles?  (pg. 21 /pg. 4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4. Why does Mae want to take Winnie home with her?  (pg. 21/pg. 4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5. Who has been following the Tucks and heard their entire story?          (pg. 22/pg. 4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6. What kind of a child does Tuck say Winnie is?  (pg. 24/pg. 48)  What does he mean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7. How does Tuck react upon meeting Winnie?  (pg. 24/pg. 4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8. How does Winnie feel upon meeting Tuck?  (pg. 24/pg. 4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9. How is Winnie’s home different from the Tucks’?  (pgs. 24-25/ pgs. 50-5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0. Why can’t the Tucks settle down at one place? (p. 26/p. 5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1. How long have they lived in that house?  (pg. 26/pg. 5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cont.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0 (Cont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2. How often do Miles and Jesse come home?  (pg. 27/pg. 5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3. What is Mae’s attitude toward immortality?  How does she deal with it?  (pg. 27/pgs. 54-5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4. What is Winnie not allowed to do at home at mealtime that suddenly makes the meal at the Tucks seem “luxurious”?  (pg. 28/pg. 5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5. What ‘rule’ does Winnie notice at mealtime?  (p. 28/p. 5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6. How and why does Winnie’s attitude towards the Tucks change?    (pg. 28/pg. 5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7. Tuck tells Winnie, “Everything’s a _______, turning and turning, never stopping….” (p. 30/p. 62)  What does he mean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8. Tuck says to Winnie, “We just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we just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b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like rocks beside the road.”  What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igurative languag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s used here?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9. Why does Tuck want Winnie to keep their secret? (pgs. 31-32/p. 6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0. Who steals the Tucks’ horse?  Where does he take the horse?  (pg. 32/pg. 6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1. What does he say to Winnie’s grandmother?  (pg. 32/pg. 6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2. Who is the last person to visit Winnie as she tries to fall asleep?  What does he want?               (pg. 35/pgs. 71-7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olog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 Wha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re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ing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ppened in the first week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August that seemed t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no connection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t fir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pg. 3/pg. 4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MPj01445100000[1]"/>
          <p:cNvPicPr/>
          <p:nvPr/>
        </p:nvPicPr>
        <p:blipFill>
          <a:blip r:embed="rId1"/>
          <a:stretch/>
        </p:blipFill>
        <p:spPr>
          <a:xfrm>
            <a:off x="5105520" y="4191120"/>
            <a:ext cx="22986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3. What kind of a deal/trade does the man in the yellow suit want to make with the Fosters?      (pg. 36/pg. 7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4. How does he describe the Tucks to the Fosters?  (pg. 36/pg. 7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5. Why doesn’t he want Mr. Foster to come along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6. Describe the constable’s suspicions.  (pg. 37/pg. 7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7. What is the stranger’s explanation for not reporting the kidnapping right away?           (pg. 37/ pg. 7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cont.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6 (Cont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8. What is the constable’s reaction upon being told that the Fosters have sold their wood to the man in the yellow suit? Why?        (pg. 37/p. 7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9. How far is the Tucks’ home from the Fosters’? (pg. 37/p. 7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0. Why didn’t Miles take his family to the spring to drink the water?  (pgs. 40-41/pg. 8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1. What decision does Winnie come to about the Tucks’ secret?  Why?  (pg. 41/pg. 8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2. What does Miles want to do with his life?  (pg. 42/pgs. 86-8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3. Why do you think Winnie feels that Tuck is “the dearest of them all”?  (pg. 44/pg. 9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4. What is the Tucks’ reaction when they hear a knock at their door?  Why?  (pg. 44/pg. 9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5. Who shows up at their door?  (pg. 44/pg. 9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6. Who told the man in the yellow suit stories about the strange family that never grew old?     (pg. 45/pg. 9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7. How did she (#65) come to hear these stories? (pg. 45/    pgs. 94-9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cont.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9 (Cont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8. What clue led the man to search for the family that never grew old?  (pgs. 45-46/pg. 9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9. What does the man in the yellow suit plan to do with the water?  (pg. 46/pg. 9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cont.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9 (Cont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0. How does he want the Tucks to help him?  (pg. 47/ pg. 9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1. What does Mae do to the man in the yellow suit?  Why?       (pg. 48/pg. 10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2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72. What is Winnie’s response to the constable when he accuses Mae of kidnapping her?  (pg. 48/ pg. 102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73. What does the constable say would happen to Mae if the man dies?  (pg. 49/pg. 103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74. What realization does Winnie come to regarding Mae’s fate?  (pg. 50/pg. 105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2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5. Why does Winnie feel ‘different’ than she did before leaving home?  (pg. 51/pg. 10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6. What news does the constable deliver to the Fosters?           (pg. 52/pg. 10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11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what way was the wood strange?  (pg. 4/pg. 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11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idn’t the people go through the wood?  (pg. 4/pg. 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11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ould the people have noticed if they had gone into the wood?  (pg. 5/pg. 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2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7. What does Winnie see across the road from her cottage?    (pg. 53/pg. 11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8. Who comes by to say goodbye to Winnie?  (pg. 54/pg. 11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9. What is Miles’s plan?           (pg. 54/ pg. 113-11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cont.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22 (Cont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0. What is it about their plan that worries them?  (pg. 54/pg. 11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1. What does Jesse give Winnie?  What does he want Winnie to do with it?  (pg. 54/pg. 114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2. What idea does Winnie have to help Mae?  (pg. 54/pg. 11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2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3. Why does Winnie feel so much guilt about what she’s about to do?  (pg. 56/pg. 118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4. What is it about her family that worries Winnie? (pg. 56/pg. 11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2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5. How does the weather affect the jailbreak?                        (pg. 59/pgs. 124-125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2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6. How did Winnie’s parents react when they first found out about Winnie’s part in the escape?   (pg. 61/pg. 13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7. What explanation did Winnie give to her parents? (pg. 61/    pg. 130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cont.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25 (Cont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8. How did her family’s reaction change upon hearing her explanation?  (pg. 62/pg. 13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9. What were the ‘benefits’ for Winnie for doing what she did? (pg. 62/pg. 13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0. What did Winnie do to the toad? Why? (p. 63/pgs.132-13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pilog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1. How can you tell that the events in the epilogue take place many years after those in the rest of the story? Cite specific evidence.  (pgs. 63-64/          pgs. 134-13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cont.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pilogue (Cont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2. What happened to the Fosters’ wood?  (pg. 64/pg. 13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3. What decision did Winnie make about the water?  How do you know?  (pg. 65/pg. 13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4. What did Mae and Tuck see in the middle of the road?  What did Tuck do with it? (pg. 66/pg. 13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79640" y="318600"/>
            <a:ext cx="3353040" cy="1143000"/>
          </a:xfrm>
          <a:prstGeom prst="rect">
            <a:avLst/>
          </a:prstGeom>
          <a:solidFill>
            <a:srgbClr val="ffffff">
              <a:alpha val="68000"/>
            </a:srgbClr>
          </a:solidFill>
          <a:ln w="1908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47800" y="1599840"/>
            <a:ext cx="7418160" cy="2957400"/>
          </a:xfrm>
          <a:prstGeom prst="rect">
            <a:avLst/>
          </a:prstGeom>
          <a:solidFill>
            <a:srgbClr val="ffffff">
              <a:alpha val="72000"/>
            </a:srgbClr>
          </a:solidFill>
          <a:ln w="1908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astprovidencelibrary.com/natalie_babbitt.ht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6/24/0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green.upper-arlington.k12.oh.us/ohioauthors/babbitt,natalie.ht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/24/0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nglish.byu.edu/Novelinks/reading%20strategies/tuck%20everlasting/Tuck%20Everlasting.ht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6/25/0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iterature Study Gui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uck Everla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rentice Hall,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533520"/>
            <a:ext cx="94489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What dream is Tuck having when  Mae wakes him?  (pg. 6/pg. 1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What is Mae’s response to Tuck’s description of the dream?               (pg. 6/pg. 1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 When and why does Mae set out for the wood?  (pgs. 5 &amp; 6/pgs. 9 &amp; 10)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. How long has it been since Mae went to Treegap?  (pg. 6/pg. 10)    [cont.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2 (Cont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9. How does Tuck feel about Mae going to the wood to meet her sons?  (pg. 6/pg. 10)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10. What does Mae take with her (one pretty thing she owns)?      (pg. 6/p. 11)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11. What is the strangest thing about the Tuck family?           (pg. 7/pg. 12)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533520"/>
            <a:ext cx="94489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. To whom does Winnie complain?  (pg. 7/pg. 1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. What does she complain abou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pg. 8/pgs. 14-1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4. What does she plan to do in the morning?  (pg. 8/pg. 15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15. Who appears at the Fosters’  gate at sunset?  (pg. 8/ pg. 17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16. What is he looking for? (p.9/p.19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17. What do they hear coming from the wood?  What does Winnie’s grandmother say it is?  What does Winnie say it sounds like?  (pg. 10/ pgs. 20-21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8. Why does Winnie decide not to run away?  (pg. 11/pg. 2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9. Whom does Winnie meet in the wood?  (pg. 14/ pg. 2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. How old does he say he is at first?  How old does he say he is after Winnie persists?  (pg. 14/pg. 2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1. How old is Winnie?  (pg. 14/pg. 2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2. What gets Jesse upset? (p.15/p.29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3. How was Winnie’s visions of being kidnapped different from the actual situation? (p. 16/p. 3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4. Whom does Winnie see stand-ing on the road?  (pg. 16/pg. 3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. What calms Winnie down?   (pg. 17/pg. 3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7:22:40Z</dcterms:created>
  <dc:creator>Audra Robertson</dc:creator>
  <dc:description/>
  <dc:language>en-US</dc:language>
  <cp:lastModifiedBy>Jennifer Polito</cp:lastModifiedBy>
  <dcterms:modified xsi:type="dcterms:W3CDTF">2013-12-16T20:20:39Z</dcterms:modified>
  <cp:revision>47</cp:revision>
  <dc:subject>Language Arts</dc:subject>
  <dc:title>Tuck Everlasting</dc:title>
</cp:coreProperties>
</file>